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BC1-AE08-4A46-8A8D-9548B7ED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A21-5277-4227-AC00-6801360D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C17-8BFA-4166-8529-3A242782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E5E-CEF7-4F63-93BA-33484D3E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977-8066-4CD4-8FA1-6BC69D3F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E21-552E-49D2-9517-19C37454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BC6-963D-4C91-9402-5DB66843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928-6A07-4E13-8C72-43637E48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FFC-0DE1-4123-8FFC-F7AF5670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850-F7FA-4170-B667-AB634868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5C4-CC5B-42D5-A7DA-F3A3C6FA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CEE-3B29-488F-A0B1-E1633FA2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EEC8-BC9A-4AEA-AE83-2C9D2F243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62440" y="1037520"/>
            <a:ext cx="9670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Ez az a d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Mit a Mennyben angyali kórus zeng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A dicsőség a Bárányé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Halleluja, halleluja, halleluja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Imádatunk Tié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örökké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15:23:02Z</dcterms:created>
  <dc:creator>Balázs</dc:creator>
  <dc:description/>
  <dc:language>en-US</dc:language>
  <cp:lastModifiedBy>Balázs</cp:lastModifiedBy>
  <dcterms:modified xsi:type="dcterms:W3CDTF">2008-01-25T11:57:19Z</dcterms:modified>
  <cp:revision>2</cp:revision>
  <dc:subject/>
  <dc:title>1. dia</dc:title>
</cp:coreProperties>
</file>